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567600"/>
        <c:axId val="84027421"/>
      </c:barChart>
      <c:catAx>
        <c:axId val="305676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27421"/>
        <c:crosses val="autoZero"/>
        <c:auto val="1"/>
        <c:lblAlgn val="ctr"/>
        <c:lblOffset val="100"/>
        <c:noMultiLvlLbl val="0"/>
      </c:catAx>
      <c:valAx>
        <c:axId val="840274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676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D479-134D-4F9D-B72B-7E612D303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3D44-5899-4CDA-BAEF-0B6B355C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7226-01F7-4868-998E-09EE15DA5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2E83-AC43-4020-888D-B1146700F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DBA3-4FB7-4C65-A3DF-F700F227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2D34-539E-4CDD-A2BE-802952B9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51B8-9FB6-4D9C-ABE3-4DE50BA5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F2AA-C297-41FC-8640-823DFF4C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6C14-F56C-4028-961A-82BCAC3B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9A83-E5A5-4C6A-BDD3-CE29D662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F72F-BD0C-4AF7-9125-14265CF1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095F-CB31-441C-A0DC-11195591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D18D5-D10A-4CC4-9657-497C1C577F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