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91644"/>
        <c:axId val="93312680"/>
      </c:barChart>
      <c:catAx>
        <c:axId val="48391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2680"/>
        <c:crosses val="autoZero"/>
        <c:auto val="1"/>
        <c:lblAlgn val="ctr"/>
        <c:lblOffset val="100"/>
        <c:noMultiLvlLbl val="0"/>
      </c:catAx>
      <c:valAx>
        <c:axId val="93312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91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A28-1816-4FFF-8645-6889C2A4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523-BE0C-4732-B85F-1C097CB7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82E-B2BF-4549-83B2-E52D4A81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D40-D2A2-4EE7-A4BB-6C755EC5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317-4D04-4959-9323-DEE80F22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3AC-4ABA-4B8A-A86E-B21C41E2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E4F-91B9-49E0-B223-168CB6C3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FD5-AD56-48F9-BF26-8F58FEF2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4FD-0D59-462D-AF6F-924574C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269-2E91-44DD-A9C6-47AE5B8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7AF-FD28-42AC-9259-25835014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BE7-7574-4BF8-994D-B4F289F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57BC7-2C9C-40D2-B7D1-28CD8F085B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